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593C-837B-4A10-8D77-42107CBA8E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e Touch DVD/HD-AV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ひとつでいい：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e Touch Di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D → S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順に作成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ecovery Tool / Playlist burning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機能はドロップした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is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ら直接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書き戻す機能はドロップした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一度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取り込んでから書き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E86-4CAE-4F2C-B477-F964B73C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6F0-78F2-4F27-B748-C69F38F6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6A1-4B23-451F-A420-86850662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4E8-8F41-42D7-884F-2658AF35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BA72-079D-499F-8CE2-96B9BBFC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E693-95B4-45FD-B28A-CFA17E9C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4E73-64C9-4C42-82D5-7837E712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D149-E60C-45A3-B322-65BF08D1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2772-5037-4C0B-9692-7FE994B9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2F0D-A19A-4EBF-B9B8-B8460995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A7E4-CCF7-408B-9798-2E471456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3634-EE23-4E80-8779-B7B4A139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5B0F-0B6C-45D5-87D4-2449DA68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BD6C-77B4-4477-9623-5E4657DF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5F39-1A45-4179-8BCC-E16FD180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1E38-F81A-461A-8510-87520675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95D9-89EA-4E4D-AE18-C1CCE31E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840-5CFC-4A6E-846A-FC87149F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8811-1521-44EC-B895-3E9FA1B3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983-8CF2-4074-86E3-1BD55022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559-7C4B-4B8A-8CAE-6EC0F95B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337-5504-4241-8FE8-4A3AEE6D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389-2A7B-442C-A7FC-EB53CD33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A60-5F04-49E0-AA18-9A2C9DA9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EDF4-B9CE-4E17-A82B-42427093FD1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9288-8AF4-4D74-899B-74E365E3289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28600" y="304920"/>
            <a:ext cx="8763120" cy="6095880"/>
          </a:xfrm>
          <a:prstGeom prst="rect">
            <a:avLst/>
          </a:prstGeom>
          <a:solidFill>
            <a:srgbClr val="9ac2c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52680" y="3486600"/>
            <a:ext cx="2210040" cy="307080"/>
          </a:xfrm>
          <a:prstGeom prst="rect">
            <a:avLst/>
          </a:prstGeom>
          <a:gradFill rotWithShape="0">
            <a:gsLst>
              <a:gs pos="0">
                <a:srgbClr val="c0c000"/>
              </a:gs>
              <a:gs pos="50000">
                <a:srgbClr val="585800"/>
              </a:gs>
              <a:gs pos="100000">
                <a:srgbClr val="c0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icture Motion Brow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15000" y="4418280"/>
            <a:ext cx="1219320" cy="520200"/>
          </a:xfrm>
          <a:prstGeom prst="rect">
            <a:avLst/>
          </a:prstGeom>
          <a:gradFill rotWithShape="0">
            <a:gsLst>
              <a:gs pos="0">
                <a:srgbClr val="5c5cff"/>
              </a:gs>
              <a:gs pos="50000">
                <a:srgbClr val="2a2a75"/>
              </a:gs>
              <a:gs pos="100000">
                <a:srgbClr val="5c5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a Check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1370160"/>
            <a:ext cx="129528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deo Conversion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1370160"/>
            <a:ext cx="108432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deo Trimming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1828440" y="2133720"/>
            <a:ext cx="1600200" cy="12952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657600" y="2133720"/>
            <a:ext cx="0" cy="12189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572000" y="2133720"/>
            <a:ext cx="533520" cy="12189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257800" y="2209320"/>
            <a:ext cx="1143000" cy="11430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59480" y="5607000"/>
            <a:ext cx="1312560" cy="337320"/>
            <a:chOff x="6459480" y="5607000"/>
            <a:chExt cx="1312560" cy="337320"/>
          </a:xfrm>
        </p:grpSpPr>
        <p:sp>
          <p:nvSpPr>
            <p:cNvPr id="346" name=""/>
            <p:cNvSpPr/>
            <p:nvPr/>
          </p:nvSpPr>
          <p:spPr>
            <a:xfrm>
              <a:off x="6459480" y="5683320"/>
              <a:ext cx="262440" cy="228600"/>
            </a:xfrm>
            <a:prstGeom prst="rect">
              <a:avLst/>
            </a:prstGeom>
            <a:gradFill rotWithShape="0">
              <a:gsLst>
                <a:gs pos="0">
                  <a:srgbClr val="5cff5c"/>
                </a:gs>
                <a:gs pos="50000">
                  <a:srgbClr val="2a752a"/>
                </a:gs>
                <a:gs pos="100000">
                  <a:srgbClr val="5cff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560" y="5607000"/>
              <a:ext cx="10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5c"/>
                  </a:solidFill>
                  <a:latin typeface="Verdana"/>
                </a:rPr>
                <a:t>Gazel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477120" y="5943600"/>
            <a:ext cx="1294560" cy="337320"/>
            <a:chOff x="6477120" y="5943600"/>
            <a:chExt cx="1294560" cy="337320"/>
          </a:xfrm>
        </p:grpSpPr>
        <p:sp>
          <p:nvSpPr>
            <p:cNvPr id="349" name=""/>
            <p:cNvSpPr/>
            <p:nvPr/>
          </p:nvSpPr>
          <p:spPr>
            <a:xfrm>
              <a:off x="6477120" y="6127920"/>
              <a:ext cx="24840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08240" y="5943600"/>
              <a:ext cx="106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5c"/>
                  </a:solidFill>
                  <a:latin typeface="Verdana"/>
                </a:rPr>
                <a:t>Launc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09480" y="2605320"/>
            <a:ext cx="914400" cy="52020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Disc Imopr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1523520" y="2895120"/>
            <a:ext cx="1752840" cy="6858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4265640"/>
            <a:ext cx="121896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pi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5410080"/>
            <a:ext cx="243864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48520" y="1370160"/>
            <a:ext cx="114300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V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o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1370160"/>
            <a:ext cx="114300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CH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o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66880" y="5027760"/>
            <a:ext cx="121932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CH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y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876920" y="3809880"/>
            <a:ext cx="1066680" cy="5335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781680" y="3351600"/>
            <a:ext cx="1219320" cy="520200"/>
          </a:xfrm>
          <a:prstGeom prst="rect">
            <a:avLst/>
          </a:prstGeom>
          <a:gradFill rotWithShape="0">
            <a:gsLst>
              <a:gs pos="0">
                <a:srgbClr val="5c5cff"/>
              </a:gs>
              <a:gs pos="50000">
                <a:srgbClr val="2a2a75"/>
              </a:gs>
              <a:gs pos="100000">
                <a:srgbClr val="5c5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itialization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ony Picture Utilit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DNA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6E3-2DAE-4F76-8C71-9BCE6BA0A0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3:10:11Z</dcterms:created>
  <dc:creator>Motoyuki Suzuki</dc:creator>
  <dc:description/>
  <dc:language>en-US</dc:language>
  <cp:lastModifiedBy>tomoko-t</cp:lastModifiedBy>
  <dcterms:modified xsi:type="dcterms:W3CDTF">2006-04-28T03:34:38Z</dcterms:modified>
  <cp:revision>12</cp:revision>
  <dc:subject/>
  <dc:title>Impalaモジュール構成</dc:title>
</cp:coreProperties>
</file>